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24B-F64A-4B3B-8B3C-17E4B2C2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777-4BCA-412E-A889-87FE7BC9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04C-E1BE-4B04-987D-CBF723AD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1CDA-CB1A-4CA3-B8E8-44726590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E0D3-F8D3-404C-B8B1-92A9B326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4834-DD2C-46C0-91A8-37C39CBC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AA50-01DD-4C29-BD25-A03F3891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484D-F20B-479A-B6E0-FB0F9328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8319-E3EB-435A-B520-15CE7B0C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C538-4004-458E-947F-D9E788C6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745F-35F5-4793-8405-B8AD35F6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912-1C08-4060-8456-669CB055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400C-8B2C-499C-921A-494C1869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5B0D-E78A-428B-BDC7-731F932F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AB28-F1D1-4B2D-8D7B-4DD99877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51A4-2BDF-4EFC-BFEF-AC156B05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1336-8423-4E76-B316-DD04254A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CE5-86DC-4260-B1A8-37B04995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D54A-866C-414B-85A2-97AE0BDB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F30-5C3D-410A-BDCE-EEC097C8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D4A7-5241-4D16-8225-2659A26C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C4CF-36DF-4BA9-BF97-16985555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6076-61FC-4A91-AF99-20C85BCA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E09-9F7B-4FCD-9965-8F1B7FC8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C53D-9830-439F-BB17-35F2465104C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4FB0-9AA4-43C5-A57E-C0A08672724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S395 Internship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partment of Natural Resour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ath Kimba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je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rc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REditM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dPL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REditVer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REditClassExten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REditConfi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REditToo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RWorkManag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RMapManag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RMapGenera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RMapAutoTas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RRequestManag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 Modu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21 Class Modu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0,000+ Lines of Co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ass Modules created by RDI to customize the out of the box ArcGis softwa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class modules are maintained by the Status Graphics Unit programme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re ArcGis code is black box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M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racle Datab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ains spatial dat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cess to “Test” dat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der the list of map 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nd Est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neral Est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wnersh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rface Classif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er Est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43000" y="1189080"/>
            <a:ext cx="70866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gorithm Consider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gure out data structure that map types were stored i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sing the map types in the data structu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all map types available for each pla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p types associated with int valu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1 Algorith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not at end of stor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 beginning of storag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ok for wanted map typ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indexed map type = wanted map typ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indexed map type to tre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se If at end of stor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nted map type isn’t in stor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rement wanted map typ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dexed map type != wanted map typ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rement index in stor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1 Co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im storageIndex As Long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im wantedMapId As Integer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im storageSize As Integer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im numPlacedNodes As Long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antedMapId = 0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torageIndex = 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hile numPlacedNodes &lt; v_pRequest.Count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f v_pRequest.Item(storageIndex) = wantedMapId The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'put it in the tre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t v_pNode = v_pTree.Nodes.Add(v_intIndex(2), tvwChild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'v_intIndex(3) = v_pNode.Index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'Set v_pHelper = New MapTypeHelper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'Call v_pHelper.Init(v_pMapType, v_pNode.Index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'Set v_pNode.Tag = v_pHelper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'v_pNode.Sorted = Tru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'Call v_pHelper.UpdateNod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numPlacedNodes 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antedMappID 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torageIndex = 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lseIf storageIndex = v_pRequest.Count Then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antedMapId 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lse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torageIndex 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                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nd If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x error message that occurs when opening ArcMap while not connected to the databas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ror message is confus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ange it to tell user to close out of ArcMap, connect to the database, and reopen ArcMap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rror causes ArcMap to run in infinite loop.  Have to end task ArcMap to stop i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ke system stop when encounters this erro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verview of th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partment of Natural resourc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partment of Natural Resour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vision of Support Serv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nd Records Information S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us Graphics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GU programmers - Maintain the ArcGis softwa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0866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ied to find a variable that had a value that caused the proble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fter tracing back through variables, functions and classes it was determined that the code that caused the error was in the Black Box part of the ArcGis co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just the Section Supplemental tex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s ArcCatalo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dit html spacing, font, and bolding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rdest P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cking to see if my changes looked goo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d to learn a few functions of ArcMap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ad to learn MTRS and how to Configure Plo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143000" y="1170000"/>
            <a:ext cx="7112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3 Co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 line  &lt;br&g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l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&lt;b&gt; &lt;/b&g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nt &lt;font size = 20&g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x problem with the http://plats.landrecords.info/ websi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pposed to return maps from LRAPP.MAP_INVENTORY and several other tab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ck queries for correctne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66680" y="1230480"/>
            <a:ext cx="703584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n sections of main query for correctne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queries returned proper map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was decided that the bug was not with the queries and lied in another departments co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roblem was passed on to another departme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5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pulate the Load Edit Layers button with the Base Laye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plans of attack. Info in 3 tabl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Queries to make one tab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code that accesses database and makes several queri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14400" y="1170000"/>
            <a:ext cx="7112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T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ridia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1680 sca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wnship/Ran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5840 sca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4800 sca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40 Ac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uarter S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400 sca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60 ac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uarter quarter s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200 sca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80 ac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ok plan of attack number 1, cod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ready some cod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earched connecting to database using ADODB.Conn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earched querying database using ADODB.records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earched using Dictionary.scripting for storing queried da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n into problem with multiple accesses to database.  Switched over to plan 2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rrently researched tables and ways to query the needed da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5 Co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Private Sub InitRequestLayerDictionary()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Dim v_ptrConn As ADODB.Connection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Dim v_ptrConn1 As ADODB.Connection                                        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Dim v_ptrRST As ADODB.Recordset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Dim v_ptrRST1 As ADODB.Recordset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Dim v_strSQL As String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Dim v_strBaseSQL As String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Dim v_ptrLayers As LREditMain.lrLayerName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Dim v_strTestID As String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Dim v_strOLDid As Long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On Error GoTo eh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Set v_ptrConn = New ADODB.Connection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v_ptrConn.ConnectionString = m_strConnectionString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v_ptrConn.Open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Set v_ptrConn1 = New ADODB.Connection      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v_ptrConn1.ConnectionString = m_strConnectionString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v_ptrConn1.Open                                  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v_strSQL = "select * from LRAPP.V_LAYERS_REQUEST"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v_strBaseSQL = "select * from LRAPP.V_BASELAYERS_REQUEST"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Set v_ptrRST = New ADODB.Recordset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v_ptrRST.Open v_strSQL, v_ptrConn, adOpenForwardOnly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Set v_ptrRST1 = New ADODB.Recordset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v_ptrRST1.Open v_strBaseSQL, v_ptrConn1, adOpenForwardOnly 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5 co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Set m_RequestLayers = New Scripting.Dictionary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Dim previousRequestID As String              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previousRequestID = ""                       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Do Until v_ptrRST.EOF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Set v_ptrLayers = New LREditMain.lrLayerNames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v_strOLDid = v_ptrRST.Fields(0).Valu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v_ptrLayers.RequestId = v_ptrRST.Fields(0).Valu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If Not (previousRequestID = v_ptrLayers.RequestId) The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Do Until v_ptrRST1.EOF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v_ptrLayers.lrPoly = "GIS." &amp; v_ptrRST1.Fields(0).Valu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v_ptrLayers.lrLine = "GIS." &amp; v_ptrRST1.Fields(1).Valu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v_ptrLayers.lrPoint = "GIS." &amp; v_ptrRST1.Fields(2).Valu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m_RequestLayers.Add m_RequestLayers.Count, v_ptrLayers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v_ptrRST1.MoveNext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Loop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previousRequestID = v_ptrLayers.RequestId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End If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Loop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GoTo cleanup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eh: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m_pEventLog.LRLogEvent Err.Description, _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                   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_ModuleName &amp; ".InitRequestLayerDictionary", _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                   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Erl, _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                   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vbLogEventTypeErro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cleanup: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If Not v_ptrConn Is Nothing The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If v_ptrConn.State = 1 Then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v_ptrConn.Clos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End If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Set v_ptrConn = Nothing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End If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End Sub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x the error with the “Generate Many Status Plats” butt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ppose to traverse my way back through the code to try to find the proble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sual Source Safe Explorer will help me search through the projec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was told this is a “good one” to work 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next on my list of things to d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ob 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90720" y="1108080"/>
            <a:ext cx="718812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nguag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QL Plu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sual Basic 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ol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acl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sual stud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cMa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cCatalo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crosoft Visual Source Saf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elp files for professionally created software aren’t always that helpfu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’t be afraid to ask questio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’t be afraid to ask for help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internet is your frien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ridi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73424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wnship/Ran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552132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828800" y="1163520"/>
            <a:ext cx="569448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arter S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916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 Tiered Sy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acle – Contains Spatial D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cSde – Manages/Translates Spatial D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cGis – Uses Translated Spatial D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R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ArcGI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- Creates, edits, maps, queries, analyzes and publishes geographic inform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ArcMap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- Used for cartography, map analysis, and edit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ArcCatalo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Organizes maps, datasets, and mode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ArcObjec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One of the largest development Libraries in use toda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heath</cp:lastModifiedBy>
  <dcterms:modified xsi:type="dcterms:W3CDTF">2006-12-02T20:39:08Z</dcterms:modified>
  <cp:revision>81</cp:revision>
  <dc:subject/>
  <dc:title>PowerPoint Presentation</dc:title>
</cp:coreProperties>
</file>